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209-0EED-43A9-8F61-424C72ED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1B5-3FE1-40AA-A311-78B6914C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EA4-1ABF-4194-92BC-ED303049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79A-F992-4E97-B2D6-4AF1BEF4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05C-0A0A-4025-9D2F-5967D9AB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01B-8F8A-437B-B0DD-726010DB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C9F-CF2E-49C8-8256-1890BE70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D3B-5D46-484B-9D14-CB24898E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253-1713-4E23-9DB7-D5E1FC1C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09A-6845-426F-AD98-9C15D848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F1B-247E-450C-94BF-1FA49900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730-353A-4B91-A398-7DAE0D1E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7A50-B78E-4DD7-BE63-605F00918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near Graph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304-CEDA-451F-947E-96F7EAE00D7E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ents and Intercept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dient of a straight li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ow steep i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A is steeper than line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The gradient of line A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than line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cept is the poi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 line cross the X axis and Y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A intersects (crosses) the X-axis at (1,0) so its intercept on the x-axis is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B intersects (crosses) the Y axis at (0, 0.5) so its intercept on the y-axis is 0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713560" y="1341360"/>
          <a:ext cx="3394080" cy="31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3560" y="1341360"/>
                    <a:ext cx="339408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8DA-B37D-45A5-95F8-4F1936C166F3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ents and Intercept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the gradient of a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triangle onto the lin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onvenient values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ru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- Y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gradient of line 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(2.5, 3)  and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(1, 0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651640" y="1268280"/>
          <a:ext cx="3216240" cy="293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1268280"/>
                    <a:ext cx="3216240" cy="29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332000" y="5229360"/>
                <a:ext cx="367164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ien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F67-9B5F-4E7B-815B-D889537D8441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gradient of the following line graph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4000" y="2550960"/>
          <a:ext cx="4157640" cy="380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550960"/>
                    <a:ext cx="415764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986360" y="2492280"/>
          <a:ext cx="4157640" cy="390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6360" y="2492280"/>
                    <a:ext cx="41576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2CF-A15A-40D5-9B56-7634B924140A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y = mx +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52892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quation of any straight line can be written in the form  y = mx + c, wher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 is the gradient of the line 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is the intercept on the y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the line y = 2x + 5 ha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gradient of 2 and an intercept on the y axis of 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ine y = 1 - 3x ha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gradient of -3 and an intercept on the y axis of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llel lines have the same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the lines y = 4x + 1 and y = 4x + 5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a graph of these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11F-42E1-45E3-ADE3-E7A900ED6789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and complete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2276640"/>
          <a:ext cx="7559640" cy="4063680"/>
        </p:xfrm>
        <a:graphic>
          <a:graphicData uri="http://schemas.openxmlformats.org/drawingml/2006/table">
            <a:tbl>
              <a:tblPr/>
              <a:tblGrid>
                <a:gridCol w="1366560"/>
                <a:gridCol w="2665440"/>
                <a:gridCol w="35276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 (y-ax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5x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7 - 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325-C3C3-480A-841B-571B66904C80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Life Linear Graph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char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mobile phone charges, currency chang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A shop offers an exchange rate of £1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1.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ot a graph of £ on the x axis and € on the y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your graph to fin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Euros you would get for £6.5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pounds you would get for €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down the equation which links £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3068640"/>
          <a:ext cx="8351280" cy="1095480"/>
        </p:xfrm>
        <a:graphic>
          <a:graphicData uri="http://schemas.openxmlformats.org/drawingml/2006/table">
            <a:tbl>
              <a:tblPr/>
              <a:tblGrid>
                <a:gridCol w="695880"/>
                <a:gridCol w="695880"/>
                <a:gridCol w="695880"/>
                <a:gridCol w="695880"/>
                <a:gridCol w="767880"/>
                <a:gridCol w="624600"/>
                <a:gridCol w="695880"/>
                <a:gridCol w="695880"/>
                <a:gridCol w="695880"/>
                <a:gridCol w="695880"/>
                <a:gridCol w="695880"/>
                <a:gridCol w="69588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212-0CEC-43B7-A185-55D51BE88A0E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Life Linear Graph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between un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grams to ounces, kilometres to mile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asks in the Unit Conversion package book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A28-8C3A-4297-A808-3D2881B3B25A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- time graph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ourney can be represented on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- tim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is always on the horizontal axis (x-axi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is on the vertical axis (y-axi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orizontal line means that the traveller has st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loping line means the traveller is mo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sitive slope means the traveller is moving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gative slope means that the traveller is retu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miles/hour (mph)  km/h et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C11-0246-4214-B664-0F0E045C6715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- time graph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yclist goes on a jour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es:-  distance 0 - 40 miles,  time 0 - 7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ordinates:-  (0,0),  (1,15),  (1.5, 15),  (2.5, 35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, 35),  (6, 10),  (6.5, 10),  (7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42920" y="3357720"/>
          <a:ext cx="741672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357720"/>
                    <a:ext cx="741672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C05-A8B9-4DA1-A2CB-BB67851C7530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- time graph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413000"/>
          <a:ext cx="8280360" cy="494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413000"/>
                    <a:ext cx="828036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633-C911-4038-9581-89411D7A7777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es and co-ordinates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graph is a way of visually representing the relationship between quantities that v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lationship can be summarised by an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s are drawn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ales called 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orizontal axi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the indepen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ertical axis is usu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ependen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076720" y="3213000"/>
          <a:ext cx="368136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3213000"/>
                    <a:ext cx="3681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19A-CDEB-4959-AD8A-4C7748E53770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- time graph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what the cyclist is doing in each section of the graph.  Include speeds and times of r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the following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How far did the cyclist tra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Calculate the average speed on the outward jour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  Calculate the average speed of the whole jour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  Draw a velocity - time graph for the whole jour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r travels between Bristol and London.  On the outward journey, it travels the 120 miles to London i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 hours.  The driver remains in London for 1½ hou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r travels half way back to Bristol at 40mph and the remainder of the distance at 80mph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w a distance tim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EC1-8048-41D0-A73F-13F09946CAA2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348000" y="2708280"/>
          <a:ext cx="2513160" cy="236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2708280"/>
                    <a:ext cx="251316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269-7CE5-4A7F-B796-14CEF86D6B7F}" type="slidenum">
              <a:t>21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s and co-ordinat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ths, the vertical axis often represents y and the horizontal axis,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es usually have linear sc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on the graph ha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ordinates,  (x, y)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epresented by cro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 is where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es cross  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292720" y="3284640"/>
          <a:ext cx="3278160" cy="29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3284640"/>
                    <a:ext cx="327816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AA1-4308-4EB4-BFE2-C701FA64459E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w the axes shown below and mark onto the graph the following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0.5, 1),  (1.5, 1),  (1.5, 1.5)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.5, 1.5),  (2.5, 2),  (3,2)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, 1.5),  (3.5, 1),  (4.5, 1)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4, 0.5),  (1, 0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 the points up in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84720" y="3246480"/>
          <a:ext cx="3494160" cy="30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4720" y="3246480"/>
                    <a:ext cx="349416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C53-27EA-4007-ABA3-5B1CBDE02EEB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ght Line Graph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ar equations have straight line graph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no powers of x or y)  e.g.  y = 2x + 1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ly y = mx + c  where m and c ar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points are needed to plot a straight line, but you should use three as a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raw a graph, first make a table of x and y values.    e.g.  y = 3x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76360" y="5084640"/>
          <a:ext cx="4343400" cy="1384560"/>
        </p:xfrm>
        <a:graphic>
          <a:graphicData uri="http://schemas.openxmlformats.org/drawingml/2006/table">
            <a:tbl>
              <a:tblPr/>
              <a:tblGrid>
                <a:gridCol w="1085760"/>
                <a:gridCol w="1086120"/>
                <a:gridCol w="1085760"/>
                <a:gridCol w="1085760"/>
              </a:tblGrid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061-3B89-4591-ACCB-873011B1ACDF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ght Line Graph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x and y ax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c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the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87720" y="1600200"/>
          <a:ext cx="4554720" cy="43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87720" y="1600200"/>
                    <a:ext cx="455472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29F-45A3-4D8E-9123-F4627A7FB082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se equations have straight line graph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 y = 2x +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y = 2x -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 y = 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Draw a table for 2x + 5y = 10, for x = 0 to 3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b) Plot a graph of this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one costs £5 rental / month and £7 / hour for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Copy and complete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Plot a graph to show hours against total b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 Use your graph to find the cost of spending 3 hours and 15 minutes on the phone one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 What is the equation of the graph you have dr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4076640"/>
          <a:ext cx="7842240" cy="911160"/>
        </p:xfrm>
        <a:graphic>
          <a:graphicData uri="http://schemas.openxmlformats.org/drawingml/2006/table">
            <a:tbl>
              <a:tblPr/>
              <a:tblGrid>
                <a:gridCol w="2952720"/>
                <a:gridCol w="977760"/>
                <a:gridCol w="978120"/>
                <a:gridCol w="977760"/>
                <a:gridCol w="977760"/>
                <a:gridCol w="978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hours on phon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(total bill £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C6D-E522-4719-AFED-510FAECDB8FA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traight line graph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traight line graph can be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agonal, vertical or horizo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iagonal line graph has an equation  y = mx +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only one value of y for each value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vertical line graph has an equation  x =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only has one value (c), y can have an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horizontal line graph has an equation y =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only has one value (c), x can have any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 Draw the graph x = 4 and y = -1 on the same ax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coordinate where they inters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451-CC96-46E4-8635-B90F4F0FB863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one set of axes labelled from -6 to +6, plot these graphs.  Label each graph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 x = 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 y =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  x = 1.6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  y = -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)  y =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)  x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)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do these graphs intersect?  Only plot the graphs if you need t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 x = 5 and y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 x = 4 and y = -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 x = -2 and y =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d)  y = -4 and x =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)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 Give the equations of four lines which, when plotted, form the sides of a rectang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 Repeat part (a) for a squ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 Repeat part (a) for an isosceles right angled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4E6-B95E-466F-842A-13546928B9E3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5-11-13T13:03:10Z</dcterms:modified>
  <cp:revision>113</cp:revision>
  <dc:subject/>
  <dc:title>U4</dc:title>
</cp:coreProperties>
</file>